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</p:sldMasterIdLst>
  <p:notesMasterIdLst>
    <p:notesMasterId r:id="rId34"/>
  </p:notesMasterIdLst>
  <p:sldIdLst>
    <p:sldId id="256" r:id="rId35"/>
    <p:sldId id="257" r:id="rId36"/>
    <p:sldId id="258" r:id="rId37"/>
    <p:sldId id="259" r:id="rId38"/>
    <p:sldId id="260" r:id="rId39"/>
    <p:sldId id="261" r:id="rId40"/>
    <p:sldId id="262" r:id="rId41"/>
    <p:sldId id="263" r:id="rId42"/>
    <p:sldId id="264" r:id="rId43"/>
    <p:sldId id="265" r:id="rId44"/>
    <p:sldId id="266" r:id="rId45"/>
    <p:sldId id="267" r:id="rId46"/>
    <p:sldId id="268" r:id="rId47"/>
    <p:sldId id="269" r:id="rId48"/>
    <p:sldId id="270" r:id="rId49"/>
    <p:sldId id="271" r:id="rId50"/>
    <p:sldId id="272" r:id="rId51"/>
    <p:sldId id="273" r:id="rId52"/>
    <p:sldId id="274" r:id="rId53"/>
    <p:sldId id="275" r:id="rId54"/>
    <p:sldId id="276" r:id="rId55"/>
    <p:sldId id="277" r:id="rId56"/>
    <p:sldId id="27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notesMaster" Target="notesMasters/notesMaster1.xml"/><Relationship Id="rId35" Type="http://schemas.openxmlformats.org/officeDocument/2006/relationships/slide" Target="slides/slide1.xml"/><Relationship Id="rId36" Type="http://schemas.openxmlformats.org/officeDocument/2006/relationships/slide" Target="slides/slide2.xml"/><Relationship Id="rId37" Type="http://schemas.openxmlformats.org/officeDocument/2006/relationships/slide" Target="slides/slide3.xml"/><Relationship Id="rId38" Type="http://schemas.openxmlformats.org/officeDocument/2006/relationships/slide" Target="slides/slide4.xml"/><Relationship Id="rId39" Type="http://schemas.openxmlformats.org/officeDocument/2006/relationships/slide" Target="slides/slide5.xml"/><Relationship Id="rId40" Type="http://schemas.openxmlformats.org/officeDocument/2006/relationships/slide" Target="slides/slide6.xml"/><Relationship Id="rId41" Type="http://schemas.openxmlformats.org/officeDocument/2006/relationships/slide" Target="slides/slide7.xml"/><Relationship Id="rId42" Type="http://schemas.openxmlformats.org/officeDocument/2006/relationships/slide" Target="slides/slide8.xml"/><Relationship Id="rId43" Type="http://schemas.openxmlformats.org/officeDocument/2006/relationships/slide" Target="slides/slide9.xml"/><Relationship Id="rId44" Type="http://schemas.openxmlformats.org/officeDocument/2006/relationships/slide" Target="slides/slide10.xml"/><Relationship Id="rId45" Type="http://schemas.openxmlformats.org/officeDocument/2006/relationships/slide" Target="slides/slide11.xml"/><Relationship Id="rId46" Type="http://schemas.openxmlformats.org/officeDocument/2006/relationships/slide" Target="slides/slide12.xml"/><Relationship Id="rId47" Type="http://schemas.openxmlformats.org/officeDocument/2006/relationships/slide" Target="slides/slide13.xml"/><Relationship Id="rId48" Type="http://schemas.openxmlformats.org/officeDocument/2006/relationships/slide" Target="slides/slide14.xml"/><Relationship Id="rId49" Type="http://schemas.openxmlformats.org/officeDocument/2006/relationships/slide" Target="slides/slide15.xml"/><Relationship Id="rId50" Type="http://schemas.openxmlformats.org/officeDocument/2006/relationships/slide" Target="slides/slide16.xml"/><Relationship Id="rId51" Type="http://schemas.openxmlformats.org/officeDocument/2006/relationships/slide" Target="slides/slide17.xml"/><Relationship Id="rId52" Type="http://schemas.openxmlformats.org/officeDocument/2006/relationships/slide" Target="slides/slide18.xml"/><Relationship Id="rId53" Type="http://schemas.openxmlformats.org/officeDocument/2006/relationships/slide" Target="slides/slide19.xml"/><Relationship Id="rId54" Type="http://schemas.openxmlformats.org/officeDocument/2006/relationships/slide" Target="slides/slide20.xml"/><Relationship Id="rId55" Type="http://schemas.openxmlformats.org/officeDocument/2006/relationships/slide" Target="slides/slide21.xml"/><Relationship Id="rId56" Type="http://schemas.openxmlformats.org/officeDocument/2006/relationships/slide" Target="slides/slide22.xml"/><Relationship Id="rId57" Type="http://schemas.openxmlformats.org/officeDocument/2006/relationships/slide" Target="slides/slide2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 type="dt" idx="5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5"/>
          <p:cNvSpPr>
            <a:spLocks noGrp="1"/>
          </p:cNvSpPr>
          <p:nvPr>
            <p:ph type="ftr" idx="6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6"/>
          <p:cNvSpPr>
            <a:spLocks noGrp="1"/>
          </p:cNvSpPr>
          <p:nvPr>
            <p:ph type="sldNum" idx="6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6C93-F61E-406F-9A22-BD8CDA4EE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34FD-5CD3-4BCB-9651-D182278E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D5E3-E04A-44D8-8DE8-41D85E05A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97B2-B6F7-427E-B9D9-3D0CFB544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981B9-6BE7-4A27-8D7B-81C33678C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AF2B-8644-47C3-AFE2-E1813E8EC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050FC-F0D8-4F23-A3A7-F4D2E51A5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AE7F-BA88-49FB-8C60-65E18A1DC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3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1F47-6449-41D7-9C05-7F568BE7A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7FB5-8B95-49E1-95FE-6DFBDFEF2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5902-4619-4F42-9C00-A54988D0D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EF9F-C00D-4B07-8AA3-BC136CC23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8C31-D677-47C9-9EED-DC1A57E65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BF97-40EE-45B1-9174-293DEEA53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24BA-8044-4637-9467-31BF4BFD9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3AC4-CB56-4E2C-9BDD-8BA45E491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D705-4F18-43AC-BC18-FE5D2C86C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628E-1B4B-47AF-86B7-D9AA73D0F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75E2-B570-4D63-A665-96E4F04B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93A1-5454-43A8-8F28-3DC1FCD25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5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79A5-02A3-462F-9F59-252ABA16A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ED57-35FE-42C1-8024-3B52A74F0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6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FB5C-855B-49B1-BA73-E1021847E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C93-9226-4BF8-A1EA-0F1D09417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DCDF-1617-4015-B4E3-C7701822B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BD403-243E-49E5-B80E-C43D8A61D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B5D3-AE72-46D6-8CF2-0E21C6853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7D48-56EE-40A1-966E-DF03A8E09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055E5-A14B-477C-81E6-D0C93284B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3DC4-6021-4A3D-8B56-BA73527CD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A884-5FDA-4CEC-9820-F6D6D2FF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35BC-6823-4FA2-B154-ED83FC3C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11B6B-2FFC-423B-BBFC-4F875A3BB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7087-E762-43DD-82C1-C9927C8B9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5724-289C-49FE-9AAB-5F140CD08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E62F-CBD7-4CF7-90D7-DC60AF5809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B1D5-A834-4A53-B844-D3ED87E8A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90D1-C291-452F-97C0-5059FDE5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8DBB-E34D-4048-A52D-CAE4C27D5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0F5E-F8A1-4086-81F3-19B575CF6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03AE-8808-475A-8B7E-EB7D9685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2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31075-E792-4A97-9AFC-D2C34446A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0F84-26C6-4CA2-ABA7-0F92A91204D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3A2F91-B9F3-4E9D-9914-8B25B9C3546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01CD3-0AB1-43B9-884F-3EB720FEEC0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6D370-16BD-495D-9CDA-5D40107FFD1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88FBDD-8800-42D7-A763-05BDDFA0954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ED982-1208-4BF4-B8C1-E0AC71E8919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80C433-07E4-47BA-A030-DA111C00142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8E617-00EF-4C67-880D-0B12F67DE9F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49A676-FA4E-4327-8D15-AADD4BE612E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7BA45-D7C9-4259-A9E8-A3FE074A82E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8E6CC9-F182-419D-AE4A-CB6729531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69EAB-D409-404C-9CBA-001BE56F64A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96C030-7E2B-4535-BA1D-A279AE1DC49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6301E4-70A2-4D9D-9487-3AB0BA125C0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C64015-2D84-4D79-BDED-BF74A95E751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35C29C-CE4C-462A-8EA2-FBEA3C783D7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0EF60-D4E8-4A0E-9B14-60A19AD2144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92B87C-8103-46E3-85E9-307AFC045D7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5A6350-55A0-4CBB-9FEA-68B7527C247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74AE73-5CC1-47DD-A658-4B1791C15CD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FC36DC-746C-46E4-B8A6-EC05FD9B1E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AA3F0-FA5F-46B4-86AD-03FE95E200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4A852-FCCA-415E-AB0F-AFE292C5A7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0767C6-9B7B-4F57-BBC3-D34D7CE52DA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69F65-5E1E-4133-AD26-8015868903D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44BB5-85CA-48CC-8A83-855540B3BA3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93F6E-DDB4-4162-9743-40D6EE14218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74637-55A4-4CAA-9B8C-637BD57F0A6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E6A8B-C888-4A50-946F-6D42C1FD776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51850-1F61-4650-A0D6-11453A0BC1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17659-72C2-4474-910D-D8F8DB3F93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A7F55-4DF3-4430-B484-D4E75122517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B3409-8A11-45B7-8423-76EADDD65E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CAA0F-5A62-4A05-A414-3B4EAC81611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47CF-D26F-4C8A-8C77-8419EA9688C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55A5-139D-4AD4-828D-9C098266D45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F270E-A7DA-4672-8530-7E99A30DD56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D9F021-68A5-4078-8DFE-55F4F341FD3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0EFDF7-BF45-4F03-BAB7-99371690043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0F9CC4-847E-429A-A218-686FCB57436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95EBB5-37A9-4AAD-B20D-7BACAA5CA95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78BDC5-65BC-49CF-9288-935FAF7523F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9836D7-C096-464A-8384-B7969144AEA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E451DF-EA75-49CA-B4E9-13126CA13E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7DC7F-35A8-4ACE-8EAD-92EE02F8D24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323271-C186-4DB6-B7B8-DA92323DAF7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81309F-11BC-43F2-9BA6-42A135D35BE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4A36CD-E242-4A99-832C-1CAFBFE722A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9E4548-0C01-45A3-B8B8-82C44C7158F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DC9A87-C02F-4A51-A6B7-DB298905FE2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AF8FC-4599-47C5-82BB-C7A231A41FC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6EF81C-166B-4C96-9520-394149215ED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8DCD5A-321E-4DF5-BB92-FAAF8CF0F1F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B36317-8C85-41DA-A85F-56A45456282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553DEB-17B8-4825-B859-50F964272F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AD349-DAD2-4C95-9319-B8352E382CC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037D1F-62FD-4C78-B0A1-798BB0AE1DD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001099-8CC2-4481-B165-E237BB3766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EA7255-8307-4562-BB00-34EC0AB00C6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A7F6CF-196C-495A-A9F6-174D3299BF0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6FADB4-97C7-4276-83E1-AF9B2E5D780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EBFFF6-C7F8-436F-880D-6FEF7778EEB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590F5D1-E180-48B3-9821-763E507ABDB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25181-5AF0-472A-BC7A-85255FB69A57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86C9F-F81F-4D56-9C6A-BA6F3A85E31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309DD-1392-48A6-8AEC-C19A54B7AA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A8E35C-946F-42DE-B666-E16EC8E2221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7C254-C80C-4B5F-9850-EFDD35A11B2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F0C38-9888-4E64-83FF-E83AF3FEC34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85E8C-773C-4E03-B8EA-19F1F55FF0C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F0E0D-39CC-4F03-B2D4-F98839420CB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0771B-F7DD-4393-B497-E39D2E9C9A8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A62BD-621B-4E3E-83D4-57DA5629904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BC84F-C1C3-4E4A-92FA-2542698B2D97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A9910-E292-4912-A33A-F2A893FFC61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6EE8F-05B1-453A-BDC5-487CD4A715A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0A1C23-11F4-4EAA-9BED-B2732CE45B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CCFF9-529A-4B2C-8963-089A71F80B42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6F739B-5C40-4F55-AAE3-51AFBAA9630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1C72CB-4518-4F8B-BB44-C039EBB8D85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DC913C-4840-4DA5-9C12-6BE811524B2D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D60D15-E47C-4964-8CA9-4FA47F1BEABE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73807A-9E1D-45EB-AD73-6CC5D8FD7C3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5B8705-E80D-483E-80F2-0C1D76B9152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88CF5A-CE48-47C5-A1B5-0B7C2B7BF18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9488F48-7C8F-414B-AF61-2D2325EB7A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2BFC8-2766-4F33-B604-94BF7D0B34E8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647B9-775B-409B-8E1B-6A4DA190DD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3264DB-FEF9-49BB-8D29-86488B48E90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A9E9B-C3B3-448D-9D99-DB3A6E30623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E74AB-4E3D-4362-83F4-89E44F23E45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289297-B70E-4A06-A3DB-88144AD21BE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0824DD-3048-40C3-BB5E-DC39D49E4F7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EE3E9F-4409-4BEC-92F2-59E11398E08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9D7B1F-87EF-4A92-8DF5-27E59F788FB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9766D3-01E7-4A3B-A757-F4C7578CA9B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6BBD92-A11A-4898-9532-6240F370294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0F388-7E4F-48F6-9DD7-001248D0505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515EC-5C11-41D1-88F2-C6B96DC96C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059E80-DEDE-4CFB-8360-E6853A0489A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C12260-C962-452C-809F-2036CA4C2B1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AD2058-AB93-4E50-AD83-F0F3D941EC9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046652-0B89-43D6-AB7A-B275B993C15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9048A-775A-4461-BE43-2355131D5F3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18509-48F6-4A02-80C1-08F5C895F97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EDF53F-B29E-4DF2-93CD-CC6D64E15BA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EF51B-1F3F-428B-A3AC-B1A046896CA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62246-8BDC-4D89-95BD-3EFDA79565B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93080-47C4-441D-9005-1BB8E1425BC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47D62-2253-4B06-9366-E7D80DF1BC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FB0ED-CC4B-4605-BE54-FD926C0EC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75E22-920D-4C04-B108-8AEC82CE7F9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8BB2F-AE56-41B9-8BF4-46EAA049BF8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24EB0-27EA-4D27-BBD9-35C5E0748F3B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4EAAAD-978C-442F-B45A-39E89042F70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4DD26-28DD-4697-AFCC-718F840299C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6F16F-8CFE-41EC-B706-81ABCADE68B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5CC75A-0250-442D-A048-80AE67567B3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943FB2-615E-44F8-94F4-850334DBB2B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B93C49A-BDFA-4D5D-9785-C4CFFC454EFA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BD6F83-2845-4298-BA6B-B3063092C5C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B40043-7916-460B-92C7-440224147C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79D71-60C5-4A03-A102-0A65B3D4829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9F6D85D-107A-43F5-BCD7-ED4BEF57ED5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3829DF-0153-4AA9-9AB0-C0C9895FBB4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8FBB23-A33C-49AE-B9C7-3C95ACA5CB2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A8AAE9E-5DEB-4C78-A94C-C92AF81CBF2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033EC0-3218-4F5E-970B-1BCFE24CFB37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F04E63-07DE-4897-B096-81CF96C149D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090DC1-190C-4E56-9E80-6911B5A0A88D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073D67-5490-4244-8A5A-9EC53F4B3F3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6A1448-9D66-4E51-8E9B-64AA3EB2ADE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78C0DB-0998-4A94-AA3F-1D9F0662B4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7BD9C-AA68-4D08-A35B-22BF9728C70F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CF007A-4E34-43CE-9CB1-A03C76D3BDA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5AA1F-3760-4FDA-ADF3-91D2D790FA8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1C256-A386-4508-B1EE-857CBDCEB74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27EDD-104F-4635-AF1E-8FA418B01D8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359D2A-14A5-43A3-9875-FCA65C4B926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B922C0-7018-46DD-99A2-EC2AE140515E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4CF249-7006-4595-88FE-4576486CA978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BC06C0-3676-4E0C-B9D4-033E01AAE7F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5FD7FD-EA20-4B6A-85EC-CA557CB49B1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39FCB-34DD-481E-9E4A-611949EA5CF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1A9D35-A97B-4588-935C-766200AADF2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466A8-2AB9-414D-A4DF-8E7E36D205AF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2FE4B-6507-46EB-AEE1-6A29BBA6D22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264F5-DA40-4EFD-BF12-887DB6A7C0F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4C183-6320-4794-B96F-71F71CEBB19A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9A8FB-3D5F-4287-8439-A2EAFFD4C91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26B33-E145-48D8-AE97-FFC620F7FE3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E4F012-8CAC-42FA-8F90-C30137B3BC7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704D9-EDAD-4D2A-8A90-BAC39FF1EEA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7FF44A-4148-403E-B635-C1D1FA45195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7B7C-F952-4031-B760-AF799D42C70A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6754F9-EA70-4E3A-94FE-4E53DC3D136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93005-3E29-4B52-BB11-4A5B91E15FB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06C8D-374C-4CB1-AD17-F99BF2EAF74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9E054A7-09FE-4FA9-9DB8-BEAE52F2D56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CFF542-85B4-4DCD-9CB3-377A0DA9C8E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A2AA17-3FD1-4548-B657-A01AE2EADC7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F010AF-8324-4281-A984-8465F09463E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5374365-A489-420C-B7F8-20709A686F5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696479-59C2-4D42-B97F-2D7181639AF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0783BB-2E6F-4ADD-892F-F55CD10968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F5CAB-FBAF-47C8-BE0A-19A7679C0C0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D3ECDD-F2F3-4549-9011-6E5189A2EAC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AF20C85-DDC2-4320-AEE2-A866725C84E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CEEEF4-64F8-4FB6-89AF-7CE8971E0A5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591587-9E31-4DF5-95DC-32D6AA750C3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8B133B-1F5A-4596-A015-BF0AE9A64623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A8CD1EA-BB55-46A2-8355-37C1C535983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18B3CA-BFB5-4E5B-85EB-C291E225B78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444EA6-9436-4D44-A029-332B1735691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3489718-0EC7-47CA-8051-9B15D0531FD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C52023-3D9B-4361-9E86-0927A04FB0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D2EB2-8C37-488A-B5C9-810DE969CF76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719CB7B-D3AB-4A78-9421-094F4B6F49A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6DF56C2-ABC1-43C4-9587-B6143CDA7C39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932B1B-A4C4-42AA-B5E0-7EB366449F9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E28FF3-7CE9-412B-AC89-E4605DE2403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221B56-ED88-435C-9401-C36BFBC05D8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3CB1AEA-138E-444C-ABCA-7DD91BD9386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E1724D-8F93-4E9E-BBCF-088D53B524D2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059B13-0A06-43E0-AC2F-A1A15DF8A83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D36543-2068-4265-A391-24F1406E2AE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B6678D-5973-43B3-9D67-F706326D787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8CD1-63E3-4A75-BB54-AFDA467C758E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106BBE-3752-4EED-887F-1566085FA79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DE782D-1A8F-4541-92D6-06DC6F01B7B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CC7834-C417-4CD8-B0DC-F10239C7AF0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EB20C1-F8A4-4F4F-B707-E7C908C27E89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20366-1F19-4A61-B931-8EE8584802A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054093-B226-4633-8D1C-69F91A7A30A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CDAC6-9180-4C61-ACC5-D83A464DB7ED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1D892E-CC5B-41A5-A2D6-5CCE3C1954B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B3C7A-5FB6-48FF-A1D0-2E42180E94D6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78C4A8-396D-48B9-BB77-8823A809330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1D4E-CC44-465A-88A1-9ECA8A849A0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8E89F31-7519-48AD-9D51-6C0E4104C37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581FA1-BC60-4E7F-B886-7FDD0353314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2FC3310-F76A-4128-BACB-91E71D4CC33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8FC1F4E-EDCB-4964-85C2-053C2990042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F8CDEA2-046E-4B20-AD7B-0A8ED39B740B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281F648-9C04-44A5-8C54-A62A668642B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0F35303-6BC4-41C5-AB2A-A1DEEE05E91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529B2E-E7AD-4685-A884-C06B5848217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C244F4-7FC2-4651-ABFA-79F516BA823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EDE839-BDE3-48AF-AA3E-ABF0F5F6AB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D9860-2EBE-46DE-9113-217D31863A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C4A4A-803F-46C5-B453-F78E4D0FCBF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125062C-2884-47BC-A844-4BF507A48405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C95648-F0DE-4FA9-86D3-4D04BBF05E4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7C9551E-8398-49A0-832B-9AC7DFBCE0F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E4E57BB-FFB1-4528-9333-D6D7D4033A7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4D94F4A-5D9A-4445-B58D-BD78D671ADC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8408C0E-BFAB-45DF-BB59-BE0474A9478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DC307D-D226-4C75-A4BC-9237F8EE9DD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F0471C5-8B73-47D0-877C-5F9D0A4A44E3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299E2ED-8055-4330-A348-9F877B50112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EAAA064-E9DC-401C-995B-32667616D5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7372-F0FB-46A9-8157-B244478F62B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7F5D0CD-72C6-4F92-AC0E-ECE26FD8C4F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CF8528-C338-4242-9F19-4F75096E4F43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48AA81B-F228-42AB-962B-2679499C2B5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3A7A0-1D0F-45BF-8D77-A0B04C29ED1C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3E4D8D-EF61-469D-8F45-6372BDC78A4F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7B9758-9709-4AB9-A709-5053B6BDACCA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5A358-7D0D-44D7-822F-BA24A398054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756CFA-072E-4813-97BC-9CF7C57DE008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27E25-2699-4617-9D42-AEE25C57660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636E35-7B32-4EB0-AEBF-E03048CCCE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A76A-FB6A-4097-8283-80D2761B5234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58412-88EB-490B-9266-1451209D70EA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B0B69D-57A0-4755-B278-D00A7CB2092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495A55-E76C-47E1-84DC-47F7104E942D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B66F1-39D2-4B81-BBA2-B3319651B34A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36059C-29F5-4A24-A23B-CED225ED0D76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B2D8D5E-6218-4C58-9D3E-AAA46619AE9E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3C9EFFA-115F-419C-A2DA-1AB0F8B63894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6D5829-9E22-4161-AD59-A44A23768BB2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67A96BE-02BD-443A-B85D-5965C885E9DD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517DE84-A949-4891-922B-EF84838B7BB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26CD-6AD0-4D7B-8AF5-C34E4144773B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9D5DD8-4682-4F61-A86F-C71E6BD0EEE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2615583-A41B-4630-8079-21DDB8B909C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78DB0E-9CDD-48C0-B5D5-88ADFA5D2994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0B8C718-CBCB-4314-9EA2-76897F98B9D6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FA33B75-B1D0-425D-ACD9-306077E9D10E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F520414-661C-40E7-9B17-25173BB7B73E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4060D9-572E-4A81-8C49-312B8C767288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9F5EB6F-28D2-44BD-818E-EDF68A7F6EFC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2EAC83-B6C3-4488-AC59-85858445EEE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3557C0AE-7175-484C-9FC8-35ACF29F44A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088D-E7BD-4E93-A611-80BD3B3208ED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10B7138-4438-4090-ACA9-A5F4A8DBD67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3A8698E-D524-403F-A74E-28172EF84C3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8EA8E96-697F-435F-BE63-E291914C5994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73A7834-4E82-4794-99B5-5FD4B26A01C1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501AF51-0B6E-41E6-9E32-26C18D95B333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F152909-08D4-4832-88B8-A55378A4FA2E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15F6D7-2E3D-488A-9486-8FAB46AA5E3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56F8B01-B783-4F63-AD04-DEDCB0142B1C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F9584A2-4526-43E6-96C3-22FF0761A0E7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CF31A4-2F84-4DBD-BA31-A445E8E714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8687C-B7F1-4431-8117-2389431FB126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1B7D03-F3A5-428D-9363-4BA5D5C0E05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2C9DA-B09E-47EB-BD5B-F26BB3E6D07C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D5EB45-B616-412A-B92A-52D9F843E250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C1E4BD-8AC1-49D0-B13D-6DE4BF258B3E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63021-9BB6-46BA-904B-554870D754C4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D3E451-D91F-4F38-92DE-EB94C9FC94C5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3917EF-2E21-4402-B2FD-9BBD2D8470B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45EE0-2E93-4470-A509-1FFAC9D2EC8A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2B755-6CBE-41CD-9E91-950AE7E9347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791CD3-B9DB-4E5F-9F5C-F639F28CAB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C4780-5725-4937-90FD-AA5074F2DDF2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90247-1116-4702-8925-D875FF0DCCB4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144CA9B-A214-4E86-8A61-D7FCBD912F61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BBC9FAF-CC96-4AC1-BB85-075B6216C041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34003A2-E5E4-4A7B-AFFE-0081A1BB47CB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4594CC8-EBBD-45D5-B181-66D3C305E898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B75F71B-5F0B-4A45-8859-A8BCFD988A2D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0A94760-24CE-4FC5-8D86-22B9C66AB399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975289B-54B0-48C7-9ACD-07374F2BF7E9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CBC61FC-809F-4975-8126-2B4616C0F535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20AD38-BED2-4872-A8C8-D133F2BE63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CF60DB-5676-490B-93B4-9D6204944987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49610A1-0243-4059-AFFA-28084D5038BA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0B921B9-5318-4878-8E89-3FDEE41B05B3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E56E66-A656-4FF9-848C-02E68379AB5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F7E10E3-E96C-4B16-A803-352C558A424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1883C68-A67D-48CD-AC7F-8670E95200D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7B6764F-414C-4636-842D-78A630966049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3BA86EAF-ECF6-4D05-AA3D-6F9D4B35771F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5835D24-DA1C-4CF4-9155-1808088AB9B3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CFAA354-1C5B-490F-82B6-B4AC0A7EA2CD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D63A96E-A720-42E4-BB1E-13D99CE3F79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71BD7-B437-40FB-921A-7C2FB8249F5A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73AD63E3-47E7-4608-B754-D70BAE239D83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05B66DD-8A7C-4711-8B3A-E8F5A719D802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4418CE-0AD6-49BE-820C-A18D7FB28814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BBBC59D-46AE-4E3E-9508-546195E3F55F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5B0581F-744B-4297-B4F0-62390E6E8CD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CD9C34-1B3E-4DA9-B941-96694B7BDC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429E-CC34-49FD-9E8D-8641AD2B40F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D6D58F-6E72-46A6-95C7-25DDA6C54A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9D65F3-A4FA-4155-9AF4-336F6EDE9A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8CF6A-BC0B-44AC-9B72-DF64CFB541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6BEF5-A675-4AE2-8B65-4D2A34E5E20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0D7DE5-9304-48E7-BB40-05819928C9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390AF-CB52-492E-BB79-8152830BFB5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8E502-9155-4B47-BC3E-0233F25657B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C102B0-07CB-4657-819D-A864A12C836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1794B-43C1-4C3D-A4A8-10E14060BE7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81CDE-1A59-450A-A27F-D36BFDF38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CBA0D-1C26-4B6C-AD79-35EAAC9E54A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5FD4-87B2-4C6B-992C-DF1E906434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DD55-9FED-43E5-B2EB-B64741CBB4E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B954-BF8D-42A0-81A8-8D788603336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DFA5F-720E-4DB5-B44A-92765DE7293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D66D7-006E-4C19-9FE8-D193047469B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B546-86CA-437A-86D0-329D2459A20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D0188-B302-4CB9-BFAF-7505C5E7532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DD9F-013F-460F-A7D6-2E0B1650B33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402E3-ECD9-457A-ACB7-95EE4C960E5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825C-0784-4992-A758-E5CB2DD31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32558-7B3F-4B30-B747-8B75DCF43C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D4C9-B1CE-46F5-A3F0-E42A5D7B6B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B6143F-A661-4525-B216-A3D2F5C0EEB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3E2692-1955-41C6-AD13-D115E2661C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23CD84-5EE7-4FF2-B37B-826FA299BE0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70C931-F7C7-40F8-8CBE-BDCBA9DEEC1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6B48F-BE66-49D9-98E0-B2161B061B6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21C339-0B71-407C-93FA-8264BE80AC8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A992D6-E702-446D-83A3-20D8DFD51C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98F48-F214-4D0F-8913-32FCD9BE55C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249A9B-84C9-48E2-946D-5B0B941FF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FA72-FDEE-44E5-9415-EAFE7F1BF17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4458C-1B85-44DD-95C5-B9346F29C8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182C64-A131-4C9A-BAB3-C711739FC56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21C65-AF51-4D87-BB7D-1992DD4B81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72F4-F00C-4175-AA39-0384432FC7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5DBC9-35EB-4406-92E0-DF58F089EFA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A9D22-21AA-4A97-AF0D-5BB850A5836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20D96-0239-4133-ACC3-39517C1D71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482FF-4707-4492-9F0F-749DBEB280D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23B09-058B-4D9D-8B1D-1646D8DB9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C59C0-6863-4608-AF30-DD7322F92A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10482-505C-4849-AB81-5123B520ACD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480F6-B0EE-4CC9-BCD0-354D04485F3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50643-25B7-4503-A384-C8E4E5ADFDC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9951B-E138-4229-8DFB-CD268347E5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087A0-CE5F-4E27-BDD5-2D5C4BD96FF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BE46E-4F2F-4E12-ACBC-87FACBAE7CA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07269-0147-459D-AFFB-DA6B3143F90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411DB-E553-4E6A-959D-D880D2348DE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CBB760-CDB1-4E1B-814A-48AE462B84F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8C716F-7377-4AA1-BAD3-506FB71FD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309000"/>
            <a:ext cx="5257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3E81D-352F-4119-AE49-1DA9B041DB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ftr" idx="1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sldNum" idx="1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E8CC-E03C-4A77-9341-B800B34A1B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sldNum" idx="1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EEB4-CDFB-4FFD-98AE-997F6D4AD0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ftr" idx="1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sldNum" idx="2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F799-30D8-4E45-8087-24B72EFF13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ftr" idx="2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2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3115-1137-4F71-A9B5-05CB21514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 type="ftr" idx="2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 type="sldNum" idx="2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A9DF2-9970-4ED1-A4E5-E3DA4BA798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ftr" idx="2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2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41BC-B34E-4DAB-A945-6977E8ED07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2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2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8565-0B8E-4093-9AC2-5B4DF66428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2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5BAB-47CE-4CC3-92B6-4579774852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ftr" idx="3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sldNum" idx="3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F1F6A-8CCD-496D-8BAF-53373D4ED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9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ftr" idx="3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sldNum" idx="3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CADD9-6459-4EBA-B46F-7AE66200A9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20E1-9700-4381-8462-098C4DAF4A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63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5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966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7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5062-576E-47D9-B5A9-0CEFEEFB7F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3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3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78E9-B13A-45DE-A3FB-D8081C149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ftr" idx="3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sldNum" idx="4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1A26-87B3-405B-960E-0FF7C5FE77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1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 type="ftr" idx="4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 type="sldNum" idx="4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024C-98D1-4A4B-9AB6-B02785830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ftr" idx="4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sldNum" idx="4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4CFC2-0737-425A-B76E-A5EB23A498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ftr" idx="4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sldNum" idx="4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4214-EC30-43A9-9F38-36B539F3EA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ftr" idx="4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sldNum" idx="4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5719-4EAF-44A7-B3F9-D8B45AB63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3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ftr" idx="49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sldNum" idx="50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9D62-9136-4F36-AC38-4A5FE472EB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 type="ftr" idx="5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 type="sldNum" idx="5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F104-FF5D-478D-9EC5-03A6E8D1E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ftr" idx="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ldNum" idx="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E61-CAD7-4F53-8889-4234C24899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4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ftr" idx="5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 type="sldNum" idx="5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E6B8-46F1-4220-967E-CA89F0B648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1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ftr" idx="55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sldNum" idx="56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A707-033C-437D-92A7-86BC0520A8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6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 type="ftr" idx="5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 type="sldNum" idx="5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1D7B-4E74-44F6-A5D3-F773E6024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ftr" idx="7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ldNum" idx="8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9E0-81A3-4EFE-948F-5BCB52189A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9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6115-7C51-4EC0-92AD-CFA6BB04A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5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5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0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3959-868C-431E-8E3E-6D37A8546E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7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0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20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6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11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12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766B-ED9A-42F3-B31F-E865EB8C3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13"/>
          </p:nvPr>
        </p:nvSpPr>
        <p:spPr>
          <a:xfrm>
            <a:off x="456840" y="6400440"/>
            <a:ext cx="65530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14"/>
          </p:nvPr>
        </p:nvSpPr>
        <p:spPr>
          <a:xfrm>
            <a:off x="746712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74F3-4ED0-4599-AC3B-1263E0ACA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60F0-6A55-41E6-B6F6-036FBBF2E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27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630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31" name="Rectangle 2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2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3" name="Group 2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34" name="Rectangle 2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Rectangle 2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Rectangle 2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Rectangle 2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Rectangle 3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Rectangle 3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Rectangle 3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Rectangle 3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3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Rectangle 3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4" name="Text Box 36"/>
          <p:cNvSpPr/>
          <p:nvPr/>
        </p:nvSpPr>
        <p:spPr>
          <a:xfrm>
            <a:off x="1882800" y="2328840"/>
            <a:ext cx="7184880" cy="16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труктура и содержание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ополнительный матери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5" name="Picture 37" descr="CLSI_WHO_Blue_CMYK1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7914-5F9E-4B3A-9D37-04F3BA539A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01000" cy="491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олжностные инструкции, включая требования к квалифик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писок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графическая схема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словия найма на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работы интернов и студ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Rectangle 4"/>
          <p:cNvSpPr/>
          <p:nvPr/>
        </p:nvSpPr>
        <p:spPr>
          <a:xfrm>
            <a:off x="609480" y="5320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4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ерсо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C96A-21BA-4EE9-A89B-191582294F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5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46784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версия документов: проверка, печатание, подписи, распрост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ддержание конфиденциа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, архив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составление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еречень справочных документов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руковод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книг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SimSun"/>
              </a:rPr>
              <a:t>стать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FB51-3DD7-44AF-AFEA-A26342617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86108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28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6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762120" y="1695240"/>
            <a:ext cx="8229600" cy="44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лан помещений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оны ограниченного доступ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лабораторные знаки и у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требования к окружающей среде в лаборатории (пространство, температура, водо- и электроснабжение, вентиля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допустимые откло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F0AA-E5B9-4318-895C-AE58B147A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7200" y="469800"/>
            <a:ext cx="82296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7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оборудованием, реагентами и расходными материалам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укажите, что для каждого наименования оборудования должны быть задокументированные процедуры, обслуживание, контроль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г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заявки и пол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асходные материалы – установите порядок управ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C245-08A4-42D5-AAE9-79B6DC231B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609480" y="5522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8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Безопаснос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ращение с пробами 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езинфе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пожарной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струкции по работе с опасными химическими веществ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даление отход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терилиз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аркировка материал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8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EA23-7B6A-4B96-9AC5-30B343C5E3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09480" y="572760"/>
            <a:ext cx="79250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9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947520" y="1482840"/>
            <a:ext cx="773892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дготовка пациен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дентификац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иготовление аликвот и предварительная обработка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транспорти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9249-95C1-471E-AF8C-9536F55D72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80880" y="552240"/>
            <a:ext cx="79250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0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871200" y="1816200"/>
            <a:ext cx="781524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ое оборуд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пользуемые реаг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алибровка / 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а анализ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методы валидации/провер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4AAB-82BC-4601-8384-669819964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роцедура после исследова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8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результа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кончательная проверка биологических значен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ечатка/приготовление копии отчета с результа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хранение (архивирование) отче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заимодействие с органами эпиднадз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59F0-F5E1-4622-8508-3FCDBFACF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33520" y="51408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нтроль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09480" y="127296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напоминание о приверженности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сылка на процедуры контрол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еактив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мпетенций персона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раткое изложение всех процедур контроля качества и ссылки на соответствующие разделы «Руководства по качеству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6B35-BEA6-42D0-9082-3A06097ED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953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Корректирующие и предупреждающие действия, 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066680" y="2514600"/>
            <a:ext cx="746784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стоянное улучш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анализ и разбор всех проблем и ошиб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нутренние аудиты являются обязательными в соответствии со стандартом ИС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Slide Number Placeholder 4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7B1C-8D8B-4A68-90D7-935D9AD5CF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64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6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6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6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7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7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7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8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8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8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69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0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70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6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F27C-6FC9-4680-9533-B58DD367E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труктура документ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4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ожите руководящие принцип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д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стру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"/>
          <p:cNvGrpSpPr/>
          <p:nvPr/>
        </p:nvGrpSpPr>
        <p:grpSpPr>
          <a:xfrm>
            <a:off x="5638680" y="2438280"/>
            <a:ext cx="3124440" cy="2935440"/>
            <a:chOff x="5638680" y="2438280"/>
            <a:chExt cx="3124440" cy="2935440"/>
          </a:xfrm>
        </p:grpSpPr>
        <p:pic>
          <p:nvPicPr>
            <p:cNvPr id="1788" name="Picture 4" descr="17_docs_structure"/>
            <p:cNvPicPr/>
            <p:nvPr/>
          </p:nvPicPr>
          <p:blipFill>
            <a:blip r:embed="rId1"/>
            <a:stretch/>
          </p:blipFill>
          <p:spPr>
            <a:xfrm>
              <a:off x="5638680" y="2438280"/>
              <a:ext cx="3124440" cy="293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TextBox 1"/>
            <p:cNvSpPr/>
            <p:nvPr/>
          </p:nvSpPr>
          <p:spPr>
            <a:xfrm>
              <a:off x="6095880" y="4572000"/>
              <a:ext cx="2057760" cy="646200"/>
            </a:xfrm>
            <a:prstGeom prst="rect">
              <a:avLst/>
            </a:prstGeom>
            <a:solidFill>
              <a:srgbClr val="181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Рабочие инструк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TextBox 2"/>
            <p:cNvSpPr/>
            <p:nvPr/>
          </p:nvSpPr>
          <p:spPr>
            <a:xfrm>
              <a:off x="6545160" y="3777840"/>
              <a:ext cx="1159200" cy="369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8"/>
            <p:cNvSpPr/>
            <p:nvPr/>
          </p:nvSpPr>
          <p:spPr>
            <a:xfrm>
              <a:off x="6840000" y="3023640"/>
              <a:ext cx="648000" cy="36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водящие принцип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TextBox 8"/>
            <p:cNvSpPr/>
            <p:nvPr/>
          </p:nvSpPr>
          <p:spPr>
            <a:xfrm>
              <a:off x="6948000" y="2819160"/>
              <a:ext cx="396000" cy="180000"/>
            </a:xfrm>
            <a:prstGeom prst="rect">
              <a:avLst/>
            </a:prstGeom>
            <a:solidFill>
              <a:srgbClr val="78fb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 Narrow"/>
                  <a:ea typeface="Calibri"/>
                </a:rPr>
                <a:t>Руко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Footer Placeholder 1"/>
          <p:cNvSpPr/>
          <p:nvPr/>
        </p:nvSpPr>
        <p:spPr>
          <a:xfrm>
            <a:off x="457200" y="6400800"/>
            <a:ext cx="52578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C6EF-3B8F-479E-A9FA-957795B41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Управление документаци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797" name="Group 3"/>
          <p:cNvGrpSpPr/>
          <p:nvPr/>
        </p:nvGrpSpPr>
        <p:grpSpPr>
          <a:xfrm>
            <a:off x="4343400" y="4038480"/>
            <a:ext cx="3504960" cy="1981440"/>
            <a:chOff x="4343400" y="4038480"/>
            <a:chExt cx="3504960" cy="1981440"/>
          </a:xfrm>
        </p:grpSpPr>
        <p:sp>
          <p:nvSpPr>
            <p:cNvPr id="1798" name="Text Box 4"/>
            <p:cNvSpPr/>
            <p:nvPr/>
          </p:nvSpPr>
          <p:spPr>
            <a:xfrm>
              <a:off x="5099400" y="4159080"/>
              <a:ext cx="2064240" cy="48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Управление качество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Oval 5"/>
            <p:cNvSpPr/>
            <p:nvPr/>
          </p:nvSpPr>
          <p:spPr>
            <a:xfrm>
              <a:off x="4343400" y="4038480"/>
              <a:ext cx="35049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Oval 7"/>
            <p:cNvSpPr/>
            <p:nvPr/>
          </p:nvSpPr>
          <p:spPr>
            <a:xfrm>
              <a:off x="6143040" y="4572000"/>
              <a:ext cx="1610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Oval 6"/>
            <p:cNvSpPr/>
            <p:nvPr/>
          </p:nvSpPr>
          <p:spPr>
            <a:xfrm>
              <a:off x="4437720" y="4572000"/>
              <a:ext cx="1610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Text Box 9"/>
            <p:cNvSpPr/>
            <p:nvPr/>
          </p:nvSpPr>
          <p:spPr>
            <a:xfrm>
              <a:off x="6143040" y="4840200"/>
              <a:ext cx="1705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онкретные СО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Text Box 8"/>
            <p:cNvSpPr/>
            <p:nvPr/>
          </p:nvSpPr>
          <p:spPr>
            <a:xfrm>
              <a:off x="4635000" y="4778280"/>
              <a:ext cx="123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истема 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4" name="Group 10"/>
          <p:cNvGrpSpPr/>
          <p:nvPr/>
        </p:nvGrpSpPr>
        <p:grpSpPr>
          <a:xfrm>
            <a:off x="2362320" y="1600200"/>
            <a:ext cx="1936800" cy="1066680"/>
            <a:chOff x="2362320" y="1600200"/>
            <a:chExt cx="1936800" cy="1066680"/>
          </a:xfrm>
        </p:grpSpPr>
        <p:sp>
          <p:nvSpPr>
            <p:cNvPr id="1805" name="Oval 11"/>
            <p:cNvSpPr/>
            <p:nvPr/>
          </p:nvSpPr>
          <p:spPr>
            <a:xfrm>
              <a:off x="2362320" y="160020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Text Box 12"/>
            <p:cNvSpPr/>
            <p:nvPr/>
          </p:nvSpPr>
          <p:spPr>
            <a:xfrm>
              <a:off x="2391120" y="1817280"/>
              <a:ext cx="190800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Руководства по эксплуатации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Group 13"/>
          <p:cNvGrpSpPr/>
          <p:nvPr/>
        </p:nvGrpSpPr>
        <p:grpSpPr>
          <a:xfrm>
            <a:off x="1143000" y="3809880"/>
            <a:ext cx="1371600" cy="1066680"/>
            <a:chOff x="1143000" y="3809880"/>
            <a:chExt cx="1371600" cy="1066680"/>
          </a:xfrm>
        </p:grpSpPr>
        <p:sp>
          <p:nvSpPr>
            <p:cNvPr id="1808" name="Text Box 14"/>
            <p:cNvSpPr/>
            <p:nvPr/>
          </p:nvSpPr>
          <p:spPr>
            <a:xfrm>
              <a:off x="1295640" y="41148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Кни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Oval 15"/>
            <p:cNvSpPr/>
            <p:nvPr/>
          </p:nvSpPr>
          <p:spPr>
            <a:xfrm>
              <a:off x="1143000" y="380988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0" name="Group 16"/>
          <p:cNvGrpSpPr/>
          <p:nvPr/>
        </p:nvGrpSpPr>
        <p:grpSpPr>
          <a:xfrm>
            <a:off x="1600200" y="2590920"/>
            <a:ext cx="1295280" cy="1066680"/>
            <a:chOff x="1600200" y="2590920"/>
            <a:chExt cx="1295280" cy="1066680"/>
          </a:xfrm>
        </p:grpSpPr>
        <p:sp>
          <p:nvSpPr>
            <p:cNvPr id="1811" name="Text Box 17"/>
            <p:cNvSpPr/>
            <p:nvPr/>
          </p:nvSpPr>
          <p:spPr>
            <a:xfrm>
              <a:off x="1676160" y="289548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Стать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Oval 18"/>
            <p:cNvSpPr/>
            <p:nvPr/>
          </p:nvSpPr>
          <p:spPr>
            <a:xfrm>
              <a:off x="1600200" y="25909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3" name="Group 19"/>
          <p:cNvGrpSpPr/>
          <p:nvPr/>
        </p:nvGrpSpPr>
        <p:grpSpPr>
          <a:xfrm>
            <a:off x="4552920" y="1371600"/>
            <a:ext cx="1619280" cy="1038240"/>
            <a:chOff x="4552920" y="1371600"/>
            <a:chExt cx="1619280" cy="1038240"/>
          </a:xfrm>
        </p:grpSpPr>
        <p:sp>
          <p:nvSpPr>
            <p:cNvPr id="1814" name="Text Box 20"/>
            <p:cNvSpPr/>
            <p:nvPr/>
          </p:nvSpPr>
          <p:spPr>
            <a:xfrm>
              <a:off x="4572000" y="152388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Тексты и закон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Oval 21"/>
            <p:cNvSpPr/>
            <p:nvPr/>
          </p:nvSpPr>
          <p:spPr>
            <a:xfrm>
              <a:off x="4552920" y="1371600"/>
              <a:ext cx="161928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6" name="Group 22"/>
          <p:cNvGrpSpPr/>
          <p:nvPr/>
        </p:nvGrpSpPr>
        <p:grpSpPr>
          <a:xfrm>
            <a:off x="1371600" y="5029200"/>
            <a:ext cx="1523880" cy="1066680"/>
            <a:chOff x="1371600" y="5029200"/>
            <a:chExt cx="1523880" cy="1066680"/>
          </a:xfrm>
        </p:grpSpPr>
        <p:sp>
          <p:nvSpPr>
            <p:cNvPr id="1817" name="Oval 23"/>
            <p:cNvSpPr/>
            <p:nvPr/>
          </p:nvSpPr>
          <p:spPr>
            <a:xfrm>
              <a:off x="1476000" y="50292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Text Box 24"/>
            <p:cNvSpPr/>
            <p:nvPr/>
          </p:nvSpPr>
          <p:spPr>
            <a:xfrm>
              <a:off x="1371600" y="53337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  <a:ea typeface="SimSun"/>
                </a:rPr>
                <a:t>Проче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9" name="Line 25"/>
          <p:cNvSpPr/>
          <p:nvPr/>
        </p:nvSpPr>
        <p:spPr>
          <a:xfrm flipH="1">
            <a:off x="2742840" y="5410080"/>
            <a:ext cx="3429000" cy="304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26"/>
          <p:cNvSpPr/>
          <p:nvPr/>
        </p:nvSpPr>
        <p:spPr>
          <a:xfrm flipH="1" flipV="1">
            <a:off x="2438280" y="4419720"/>
            <a:ext cx="2114640" cy="45720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Line 27"/>
          <p:cNvSpPr/>
          <p:nvPr/>
        </p:nvSpPr>
        <p:spPr>
          <a:xfrm flipV="1">
            <a:off x="5099040" y="2437920"/>
            <a:ext cx="82440" cy="2133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Line 28"/>
          <p:cNvSpPr/>
          <p:nvPr/>
        </p:nvSpPr>
        <p:spPr>
          <a:xfrm flipH="1" flipV="1">
            <a:off x="2895480" y="3352680"/>
            <a:ext cx="3353040" cy="1524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9"/>
          <p:cNvSpPr/>
          <p:nvPr/>
        </p:nvSpPr>
        <p:spPr>
          <a:xfrm flipH="1" flipV="1">
            <a:off x="3885840" y="2590920"/>
            <a:ext cx="2438280" cy="2187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30"/>
          <p:cNvSpPr/>
          <p:nvPr/>
        </p:nvSpPr>
        <p:spPr>
          <a:xfrm flipH="1" flipV="1">
            <a:off x="2743200" y="3505320"/>
            <a:ext cx="1892160" cy="127296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31"/>
          <p:cNvSpPr/>
          <p:nvPr/>
        </p:nvSpPr>
        <p:spPr>
          <a:xfrm flipH="1" flipV="1">
            <a:off x="5486040" y="2409840"/>
            <a:ext cx="1143000" cy="22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32"/>
          <p:cNvSpPr/>
          <p:nvPr/>
        </p:nvSpPr>
        <p:spPr>
          <a:xfrm flipH="1">
            <a:off x="2742840" y="5257800"/>
            <a:ext cx="1714680" cy="152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33"/>
          <p:cNvSpPr/>
          <p:nvPr/>
        </p:nvSpPr>
        <p:spPr>
          <a:xfrm flipH="1" flipV="1">
            <a:off x="2361960" y="4571640"/>
            <a:ext cx="3809880" cy="685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34"/>
          <p:cNvSpPr/>
          <p:nvPr/>
        </p:nvSpPr>
        <p:spPr>
          <a:xfrm>
            <a:off x="6172200" y="2144880"/>
            <a:ext cx="28195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Чтобы не усложнять управление качеств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писок документов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SimSun"/>
              </a:rPr>
              <a:t> +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простая нумер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Ссылки на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Footer Placeholder 3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CD42-0E69-40E3-854D-AB571B9400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6868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ть только ОДНА официальная версия «Руководства по качеству»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бота над «Руководством по качеству» никогда не заканчивается, «Руководство» постоянно улучшается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«Руководство» должно быть прочитано, понято и принято все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о должно быть написано ясным, хорошо понятным языком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«Руководстве» должны быть дата и подписи руководителей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дует использовать стандартные заголовки на всех страницах и указывать номер версии каждой процедур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дготовка «Руководства по качеству» – очень большая, но также и очень стоящая и полезная для лаборатории работ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Slide Number Placeholder 2"/>
          <p:cNvSpPr/>
          <p:nvPr/>
        </p:nvSpPr>
        <p:spPr>
          <a:xfrm>
            <a:off x="7467480" y="6404400"/>
            <a:ext cx="129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45CD-6707-46E1-B6E2-1C905E92D6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83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83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85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85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85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85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86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86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86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87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7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87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87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88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88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89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3" name="Footer Placeholder 1"/>
          <p:cNvSpPr/>
          <p:nvPr/>
        </p:nvSpPr>
        <p:spPr>
          <a:xfrm>
            <a:off x="457200" y="6400800"/>
            <a:ext cx="655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89BE-E67E-404C-8123-2799C97A53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16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7478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ется стандартом ИСО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но стиль и структура не зада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йте руководящий комите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уководящие принципы для каждого из 12 элементов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каждому руководящему принципу сформулируйте цели и 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Руководство» должно содержать руководящие принципы в отношении качества и ссылки на процессы и процеду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3AB4-BC76-409A-815D-568C1DFDEE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533520" y="426960"/>
            <a:ext cx="8153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  <a:ea typeface="SimSun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  <a:ea typeface="SimSun"/>
              </a:rPr>
              <a:t>(пример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ве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сонал (образование и обучение персонал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документации, включая записи, поддержание и архив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мещения и окружающая сред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53DE-D5D3-4403-8CA1-5210819D3C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0100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правление оборудованием, реагентами, расходными материал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следования и разработк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(факультативно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до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оцедуры после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Контроль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8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FD5-0992-456B-B25A-D910A618A6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/>
          </p:nvPr>
        </p:nvSpPr>
        <p:spPr>
          <a:xfrm>
            <a:off x="380880" y="1314360"/>
            <a:ext cx="87631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нформационная система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еагирование на жалобы – управление нештатными ситу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ередача информации и другие виды взаимо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редупреждающие и корректирующие действия, внутрен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опросы эти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2" name="Rectangle 2"/>
          <p:cNvSpPr/>
          <p:nvPr/>
        </p:nvSpPr>
        <p:spPr>
          <a:xfrm>
            <a:off x="152280" y="48996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лан «Руководства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486-C521-442E-AF6B-B0406A20A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1"/>
          <p:cNvSpPr>
            <a:spLocks noGrp="1"/>
          </p:cNvSpPr>
          <p:nvPr>
            <p:ph/>
          </p:nvPr>
        </p:nvSpPr>
        <p:spPr>
          <a:xfrm>
            <a:off x="685440" y="1577520"/>
            <a:ext cx="8077320" cy="39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история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виды деятель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сфера применения «Руководств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бновление «Руководства»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чт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гд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Rectangle 4"/>
          <p:cNvSpPr/>
          <p:nvPr/>
        </p:nvSpPr>
        <p:spPr>
          <a:xfrm>
            <a:off x="609480" y="5749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1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Введ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5"/>
          <p:cNvSpPr/>
          <p:nvPr/>
        </p:nvSpPr>
        <p:spPr>
          <a:xfrm>
            <a:off x="3581280" y="3909960"/>
            <a:ext cx="335304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ог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4BCD-1CDE-45FE-93B1-4135D6B043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/>
          </p:nvPr>
        </p:nvSpPr>
        <p:spPr>
          <a:xfrm>
            <a:off x="533160" y="1839960"/>
            <a:ext cx="838188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писание организации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юридическая идентифика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потребности в ресурс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распределение ответственности и полномоч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SimSun"/>
              </a:rPr>
              <a:t>2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Организация и управл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Footer Placeholder 1"/>
          <p:cNvSpPr/>
          <p:nvPr/>
        </p:nvSpPr>
        <p:spPr>
          <a:xfrm>
            <a:off x="457200" y="6309360"/>
            <a:ext cx="525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написание «Руководства по качеству»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F494-3E83-4DA8-8407-24E53942FF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3.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Политика в области качеств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762120" y="1220760"/>
            <a:ext cx="8229600" cy="49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официальное заявление руководства лаборатории о политике в области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ие, что руководитель лаборатории назначит менеджера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SimSun"/>
              </a:rPr>
              <a:t>дает определени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мисс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ц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SimSun"/>
              </a:rPr>
              <a:t>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Olga</cp:lastModifiedBy>
  <dcterms:modified xsi:type="dcterms:W3CDTF">2013-05-20T13:01:10Z</dcterms:modified>
  <cp:revision>72</cp:revision>
  <dc:subject/>
  <dc:title>Example of Written Policy CLSI HS1</dc:title>
</cp:coreProperties>
</file>